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7D0-4AB5-4FB5-B66C-84EED752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F4C-9A19-4F7B-8446-D7D1A9D8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CEB-E1D6-4E5F-8069-48DFDF2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3D6-52BF-435D-96C2-E190D4B2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8D1-5344-4C1F-AC23-87080113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6DA-F378-4BA5-9750-8D7B335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DB9-7C51-414A-B9C8-831783E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B2C-79DE-4228-99C4-A6A67E5A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D33-B3B0-4AF3-AB61-664B884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88A-718F-4E4C-81EE-341D982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3C6-6839-42CF-A358-EE54161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993-09B5-45EC-9A63-BD85D0A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8A1E-3065-41EF-AFB9-A58E9E5B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858000" cy="861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6:31:04Z</dcterms:created>
  <dc:creator>344-student</dc:creator>
  <dc:description/>
  <dc:language>en-US</dc:language>
  <cp:lastModifiedBy>344-student</cp:lastModifiedBy>
  <dcterms:modified xsi:type="dcterms:W3CDTF">2012-10-02T16:32:13Z</dcterms:modified>
  <cp:revision>1</cp:revision>
  <dc:subject/>
  <dc:title>Slide 1</dc:title>
</cp:coreProperties>
</file>